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0B35-43F7-487D-B66B-F5BB6707F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EDD7-35B4-4A71-AC49-D95119054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EDBF-1C6A-46A6-A7C6-C1DCCE59E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15D4-F2B7-4B0C-B0CB-4B87659BD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E425-2A44-4C44-ABDD-C137DB909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B895-4213-4F7B-81C3-FCB71B8F1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48D3-BBFB-48D8-86B9-087C4C456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0D28-2D94-40FB-8874-4B5B2319C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596F-6F71-4285-ADEB-67369CEBB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2187-ADBF-435A-8837-2979D37B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FB09-7D56-4B49-9C72-1288629B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97A0-8C41-436A-BE77-3D49D55E8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8F4E7-E379-431B-B130-115A747F28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66560" y="824040"/>
            <a:ext cx="821088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66560" y="824040"/>
            <a:ext cx="8210880" cy="520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6560" y="824040"/>
            <a:ext cx="821088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68360" y="571680"/>
            <a:ext cx="8209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8360" y="824040"/>
            <a:ext cx="820908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6560" y="824040"/>
            <a:ext cx="821088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7:22:07Z</dcterms:created>
  <dc:creator>Patrick J. Mooney</dc:creator>
  <dc:description/>
  <dc:language>en-US</dc:language>
  <cp:lastModifiedBy>Patrick J. Mooney</cp:lastModifiedBy>
  <dcterms:modified xsi:type="dcterms:W3CDTF">2011-09-15T03:19:12Z</dcterms:modified>
  <cp:revision>4</cp:revision>
  <dc:subject/>
  <dc:title>Slide 1</dc:title>
</cp:coreProperties>
</file>